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67C0-EB24-4BD3-A4E7-277593CE2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45A-71D6-45BE-9CF8-2B5189B564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49A-6D7B-4C27-8E24-FE900840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609-2A3E-4A39-A8E8-4E9B5A4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102-4569-4C11-B88C-4A811007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D18-6A48-4F16-816F-1263CE53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38E3-E44F-4C63-AE70-F55247AC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83DE-96AB-4FCF-9B4C-50422615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7429-3EAD-4D5C-9F26-AC5620D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A6F5-5068-47BC-86F1-E26FC67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C241-746D-41E3-B775-5EEFE46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218-2181-4676-B8DD-8DB5117E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C9E-5A09-4E76-BB60-A0551AC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BA3-2554-4399-ABF3-ADCE2DB6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3D4-2BE7-481B-A298-E6C53F6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BE4-BC9B-491D-B185-D374D097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F9A-6373-4C09-90A5-1EFF22F7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263-488D-4DBC-9323-5EFB4F04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A7FA-576F-4802-9243-4BF8FC5D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81F-2F06-46E6-B6F2-781BE30F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DB2-20BF-49D0-B427-6B8CED6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CCE-8454-4FF5-86CD-DD6E1E85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7CF-5921-48D8-885C-09F539C0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CDA-7855-4F37-9C0F-595CE40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390-1C3C-4CA8-B3BE-3C09BD0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71B-C923-451A-8727-DA1785C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4C8-11A8-4327-8A3E-116F23BDE5F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4C9-2842-4613-93C2-737A1E93795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ar1476" TargetMode="External"/><Relationship Id="rId2" Type="http://schemas.openxmlformats.org/officeDocument/2006/relationships/hyperlink" Target="consultantplus://offline/ref=3A596D0D948F2E303421EE5800A2404C4B463D316379106ABD05602B99830309A1DEDE5FC1DFCF3DN8VAK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228600" y="2209680"/>
            <a:ext cx="8534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Порядок возмещения средств из фонда социального страхования на финансовое обеспечение предупредительных мер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6553080" y="2286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1066680" y="4572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едеральный закон от 1 декабря 2014 г. N 386-ФЗ "О бюджете Фонда социального страхования Российской Федерации на 2015 год и на плановый период  2016 и 2017 год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838080" y="4114800"/>
            <a:ext cx="746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можность использования в качестве дополнительного источника финансирования мероприятий по охране труда  части сумм страховых взносов на обязательное социальное страхование от несчастных случаев на производстве и профессиональных заболеваний, (до 20%) на предупредительные меры по сокращению производственного травматиз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362320" y="14479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066680" y="2590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врат денежных средств за вычетом расходов, произведенных в предшествующем календарном году на выплату пособий по временной нетрудоспособности в связи с несчастными случаями на производстве или профессиональными заболеван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C:\Documents and Settings\Loner\Рабочий стол\аттестация\1926930.jpg"/>
          <p:cNvPicPr/>
          <p:nvPr/>
        </p:nvPicPr>
        <p:blipFill>
          <a:blip r:embed="rId1"/>
          <a:stretch/>
        </p:blipFill>
        <p:spPr>
          <a:xfrm>
            <a:off x="2438280" y="152280"/>
            <a:ext cx="30481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85800" y="38088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каз Министерства труда и социальной защиты  РФ  от 10 декабря 2012 г. N 580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 утверждении правил финансового обеспечения предупредительных мер по сокращению производственного травматизма  и профессиональных заболеваний работников и санаторно-курортного лечения работников, занятых на работах с вредными и (или) опасными производственными факторами»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Финансовому обеспечению за счет сумм страховых взносов подлежа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расходы страхователя на следующие мероприят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) проведение специальной оценки условий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) реализация 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) обучение по охране труда следующих категорий работников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руководителей и специалистов служб охраны труда организаци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членов комитетов (комиссий) по охране труд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уполномоченных (доверенных) лиц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) приобретение работникам, специальной одежды, специальной обуви и других средств индивидуальной защиты (далее - СИЗ) в соответствии с типовыми нормами бесплатной выдачи СИЗ (далее - типовые нормы) и (или) на основании результатов проведения специальной оценки условий труда, а также смывающих и (или) обезвреживающи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90720" y="228600"/>
            <a:ext cx="8153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) санаторно-курортное лечение работников, занятых на работах с вредными и (или) опасными производственными фактор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) проведение обязательных периодических медицинских осмотров (обследований) работник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) обеспечение лечебно-профилактическим питанием (далее - ЛПП) работников, для которых указанное питание предусмотрено Перечнем производств, профессий и должностей, работа в которых дает право на бесплатное получение лечебно-профилактического пит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) приобретение страхователями, работники которых проходят обязательные предсменные и (или) предрейсовые медицинские осмотры, приборов для определения наличия и уровня содержания алкоголя (алкотестеры или алкометр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) приобретение страхователями, осуществляющими пассажирские и грузовые перевозки, приборов контроля за режимом труда и отдыха водителей (тахографов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) приобретение страхователями аптечек для оказания первой помощ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1028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232200"/>
            <a:ext cx="800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едоставления государственной услуги заявитель подает в территориальный орган Фонда на бумажном носителе или в форме электронного документа заявление о финансовом обеспечении предупредительных мер (далее - заявление)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1"/>
              </a:rPr>
              <a:t>приложение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Административному регламент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38080" y="198432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счерпывающий перечень документов, необходимых в соответствии нормативными правовыми актами для предоставления государственной услуги, подлежащих представлению заявител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2931840"/>
            <a:ext cx="8991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заявлению прилагаются документы, необходимые для предоставления государственной услуг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лан финансового обеспечения предупредительных мер в текущем календарном году, форма которого предусмотрена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  <a:hlinkClick r:id="rId2"/>
              </a:rPr>
              <a:t>приложение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 Правилам (далее - план финансового обеспечения предупредительных мер), подготовленный с учетом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ллективного договора (соглашения по охране труда между работодателем и представительным органом работников), с указанием суммы финансирова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опия перечня мероприятий по улучшению условий и охраны труда работников, разработанного по результатам проведения специальной оценки условий труда, и (или) копия (выписка из) коллективного договора (соглашения по охране труда между работодателем и представительным органом работник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для обоснования финансового обеспечения предупредительных мер заявитель представляет документы (копии документов), обосновывающие необходимость финансового обеспечения каждого из мероприятий, включенных в план финансового обеспечения предупредительных ме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0" y="308520"/>
            <a:ext cx="9144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БЛОК-СХЕМА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ПОСЛЕДОВАТЕЛЬНОСТИ ДЕЙСТВИЙ ПРЕДОСТАВЛЕНИЯ  ГОСУДАРСТВЕННОЙ УСЛУГИ ПО ПРИНЯТИЮ РЕШЕНИЯ О ФИНАНСОВОМ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ОБЕСПЕЧЕНИИ ПРЕДУПРЕДИТЕЛЬНЫХ МЕР ПО СОКРАЩЕНИЮ ПРОИЗВОДСТВЕННОГО ТРАВМАТИЗМА И ПРОФЕССИОНАЛЬ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ЗАБОЛЕВАНИЙ РАБОТНИКОВ И САНАТОРНО-КУРОРТНОГО ЛЕЧЕНИЯ РАБОТНИКОВ, ЗАНЯТЫХ НА РАБОТАХ С ВРЕДНЫ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  <a:ea typeface="Calibri"/>
              </a:rPr>
              <a:t>И (ИЛИ) ОПАСНЫМИ ПРОИЗВОДСТВЕННЫМИ ФАКТОРАМИ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95480" y="1905120"/>
            <a:ext cx="3124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514600" y="3505320"/>
            <a:ext cx="38862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рриториальный орган фон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1600200" y="2590920"/>
            <a:ext cx="57150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явление (лично, почтой, в электронном виде) с комплектом документов (лично, почтой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Прямая со стрелкой 6"/>
          <p:cNvCxnSpPr>
            <a:stCxn id="120" idx="2"/>
            <a:endCxn id="122" idx="0"/>
          </p:cNvCxnSpPr>
          <p:nvPr/>
        </p:nvCxnSpPr>
        <p:spPr>
          <a:xfrm flipH="1">
            <a:off x="4455360" y="22114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stCxn id="122" idx="2"/>
            <a:endCxn id="121" idx="0"/>
          </p:cNvCxnSpPr>
          <p:nvPr/>
        </p:nvCxnSpPr>
        <p:spPr>
          <a:xfrm flipH="1">
            <a:off x="4455360" y="31258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5" name="Прямоугольник 18"/>
          <p:cNvSpPr/>
          <p:nvPr/>
        </p:nvSpPr>
        <p:spPr>
          <a:xfrm>
            <a:off x="762120" y="4191120"/>
            <a:ext cx="2286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личие оснований, по которым заявление и комплект документов не может быть принято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838080" y="5486400"/>
            <a:ext cx="22100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ление и комплект документов  с обоснованием причин возврата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Соединительная линия уступом 42"/>
          <p:cNvCxnSpPr>
            <a:stCxn id="126" idx="1"/>
            <a:endCxn id="120" idx="1"/>
          </p:cNvCxnSpPr>
          <p:nvPr/>
        </p:nvCxnSpPr>
        <p:spPr>
          <a:xfrm flipH="1" rot="10800000">
            <a:off x="836640" y="2056680"/>
            <a:ext cx="2057760" cy="3886920"/>
          </a:xfrm>
          <a:prstGeom prst="bentConnector3">
            <a:avLst>
              <a:gd name="adj1" fmla="val -11111"/>
            </a:avLst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8" name="Прямая со стрелкой 44"/>
          <p:cNvCxnSpPr>
            <a:endCxn id="125" idx="0"/>
          </p:cNvCxnSpPr>
          <p:nvPr/>
        </p:nvCxnSpPr>
        <p:spPr>
          <a:xfrm flipH="1">
            <a:off x="1904400" y="3885120"/>
            <a:ext cx="9910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9" name="Прямая со стрелкой 48"/>
          <p:cNvCxnSpPr>
            <a:stCxn id="125" idx="2"/>
            <a:endCxn id="126" idx="0"/>
          </p:cNvCxnSpPr>
          <p:nvPr/>
        </p:nvCxnSpPr>
        <p:spPr>
          <a:xfrm>
            <a:off x="1905120" y="5105520"/>
            <a:ext cx="3888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0" name="Прямоугольник 58"/>
          <p:cNvSpPr/>
          <p:nvPr/>
        </p:nvSpPr>
        <p:spPr>
          <a:xfrm>
            <a:off x="4876920" y="4191120"/>
            <a:ext cx="2666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гистрация принятого заявления с комплектом докумен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59"/>
          <p:cNvSpPr/>
          <p:nvPr/>
        </p:nvSpPr>
        <p:spPr>
          <a:xfrm>
            <a:off x="4191120" y="541008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Прямая со стрелкой 15"/>
          <p:cNvCxnSpPr>
            <a:endCxn id="130" idx="0"/>
          </p:cNvCxnSpPr>
          <p:nvPr/>
        </p:nvCxnSpPr>
        <p:spPr>
          <a:xfrm>
            <a:off x="5257800" y="3885840"/>
            <a:ext cx="95328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Прямая со стрелкой 20"/>
          <p:cNvCxnSpPr>
            <a:stCxn id="130" idx="2"/>
            <a:endCxn id="131" idx="0"/>
          </p:cNvCxnSpPr>
          <p:nvPr/>
        </p:nvCxnSpPr>
        <p:spPr>
          <a:xfrm>
            <a:off x="6210360" y="5105520"/>
            <a:ext cx="38880" cy="3052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4" name="Прямая со стрелкой 30"/>
          <p:cNvCxnSpPr>
            <a:stCxn id="131" idx="2"/>
          </p:cNvCxnSpPr>
          <p:nvPr/>
        </p:nvCxnSpPr>
        <p:spPr>
          <a:xfrm flipH="1">
            <a:off x="6246000" y="6326280"/>
            <a:ext cx="3960" cy="3816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438280" y="762120"/>
            <a:ext cx="4114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требование  документов (сведений) в рамках межведомственного взаимодействия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15238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до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5181480" y="2286000"/>
            <a:ext cx="2438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явители, у которых сумма страховых взносов составляет более 8 млн. руб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5720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б отказе предоставления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3048120" y="3809880"/>
            <a:ext cx="22096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ятие решения о  предоставлении  услуги в течение  10 рабочих дн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3886200"/>
            <a:ext cx="914400" cy="9144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1" name="Прямая со стрелкой 9"/>
          <p:cNvCxnSpPr>
            <a:endCxn id="136" idx="0"/>
          </p:cNvCxnSpPr>
          <p:nvPr/>
        </p:nvCxnSpPr>
        <p:spPr>
          <a:xfrm flipH="1">
            <a:off x="2742840" y="1675440"/>
            <a:ext cx="99144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2" name="Прямая со стрелкой 12"/>
          <p:cNvCxnSpPr>
            <a:endCxn id="137" idx="0"/>
          </p:cNvCxnSpPr>
          <p:nvPr/>
        </p:nvCxnSpPr>
        <p:spPr>
          <a:xfrm>
            <a:off x="5333760" y="1676160"/>
            <a:ext cx="106740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3" name="Прямая со стрелкой 15"/>
          <p:cNvCxnSpPr>
            <a:stCxn id="136" idx="2"/>
            <a:endCxn id="139" idx="0"/>
          </p:cNvCxnSpPr>
          <p:nvPr/>
        </p:nvCxnSpPr>
        <p:spPr>
          <a:xfrm>
            <a:off x="2743200" y="3200040"/>
            <a:ext cx="14104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4" name="Прямая со стрелкой 18"/>
          <p:cNvCxnSpPr>
            <a:stCxn id="136" idx="2"/>
            <a:endCxn id="138" idx="0"/>
          </p:cNvCxnSpPr>
          <p:nvPr/>
        </p:nvCxnSpPr>
        <p:spPr>
          <a:xfrm flipH="1">
            <a:off x="1561320" y="3200040"/>
            <a:ext cx="11818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5" name="Прямая со стрелкой 21"/>
          <p:cNvCxnSpPr>
            <a:stCxn id="137" idx="2"/>
            <a:endCxn id="140" idx="0"/>
          </p:cNvCxnSpPr>
          <p:nvPr/>
        </p:nvCxnSpPr>
        <p:spPr>
          <a:xfrm>
            <a:off x="6400800" y="3200040"/>
            <a:ext cx="991440" cy="68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Прямоугольник 23"/>
          <p:cNvSpPr/>
          <p:nvPr/>
        </p:nvSpPr>
        <p:spPr>
          <a:xfrm>
            <a:off x="1219320" y="6172200"/>
            <a:ext cx="3124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ЯВИ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24"/>
          <p:cNvSpPr/>
          <p:nvPr/>
        </p:nvSpPr>
        <p:spPr>
          <a:xfrm>
            <a:off x="609480" y="5257800"/>
            <a:ext cx="4572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 заявителю в форме приказа (лично, почтой, в электро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" name="Прямая со стрелкой 26"/>
          <p:cNvCxnSpPr>
            <a:stCxn id="138" idx="2"/>
            <a:endCxn id="147" idx="0"/>
          </p:cNvCxnSpPr>
          <p:nvPr/>
        </p:nvCxnSpPr>
        <p:spPr>
          <a:xfrm>
            <a:off x="1562040" y="4800600"/>
            <a:ext cx="13341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9" name="Прямая со стрелкой 29"/>
          <p:cNvCxnSpPr>
            <a:stCxn id="139" idx="2"/>
            <a:endCxn id="147" idx="0"/>
          </p:cNvCxnSpPr>
          <p:nvPr/>
        </p:nvCxnSpPr>
        <p:spPr>
          <a:xfrm flipH="1">
            <a:off x="2894760" y="4800600"/>
            <a:ext cx="125820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0" name="Прямая со стрелкой 32"/>
          <p:cNvCxnSpPr/>
          <p:nvPr/>
        </p:nvCxnSpPr>
        <p:spPr>
          <a:xfrm flipH="1">
            <a:off x="2819160" y="5866920"/>
            <a:ext cx="2160" cy="30564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1" name="Прямая со стрелкой 35"/>
          <p:cNvCxnSpPr>
            <a:endCxn id="135" idx="0"/>
          </p:cNvCxnSpPr>
          <p:nvPr/>
        </p:nvCxnSpPr>
        <p:spPr>
          <a:xfrm flipH="1">
            <a:off x="4493520" y="306360"/>
            <a:ext cx="3960" cy="4579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r</dc:creator>
  <dc:description/>
  <dc:language>en-US</dc:language>
  <cp:lastModifiedBy>Андрей</cp:lastModifiedBy>
  <dcterms:modified xsi:type="dcterms:W3CDTF">2007-12-31T19:21:22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